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039821"/>
        <c:axId val="67601645"/>
      </c:barChart>
      <c:catAx>
        <c:axId val="680398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601645"/>
        <c:crosses val="autoZero"/>
        <c:auto val="1"/>
        <c:lblAlgn val="ctr"/>
        <c:lblOffset val="100"/>
        <c:noMultiLvlLbl val="0"/>
      </c:catAx>
      <c:valAx>
        <c:axId val="676016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398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E458-9D79-466B-9168-5069A832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4B6F-47D1-4822-9D90-AD7F605C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B680-BFC6-41D2-8E8B-4B8E90983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7397-C51E-4339-A53C-6C9928DE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9B2F-A4D1-4BF7-94F9-5A3590E5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DE20-E4E1-49A0-93DF-6BF30B34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F233-DA70-4DBF-ABE1-1B5CC0DD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ECE9-DF60-4D7A-B130-EEB76104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04F4-B4C0-4AEA-A0F7-D153306A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1B51-5659-4E0F-8DFB-097CD913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3160-8765-4869-99A5-2D95E163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1AF6-C685-4F1C-9E5B-300A4FCA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4E29D-9C07-4CD2-AA08-FBD9411807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